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9.wmf" ContentType="image/x-wmf"/>
  <Override PartName="/ppt/media/image7.jpeg" ContentType="image/jpeg"/>
  <Override PartName="/ppt/media/type.wav" ContentType="audio/x-wav"/>
  <Override PartName="/ppt/media/image17.png" ContentType="image/png"/>
  <Override PartName="/ppt/media/image2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4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7E3-717C-4AE9-A773-E3926010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6EA-6816-476A-961A-85F668B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E2C-F072-414F-A027-62A85931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0AD-9395-4429-A815-563F3988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3912-6091-46A9-BD69-70B8EDA9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24ED-CA73-45BA-8BDE-8E340403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0A0-4AA9-4FA1-A998-E14CE48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F038-DDC8-4341-80E9-D04E4E3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8463-4A4E-4858-8E28-80FBA08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EE1A-C4A4-444C-8FB1-E323E28D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AAA3-19FF-427C-8C7C-B7A9EA9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74C-C7FB-48E5-87B4-7C3CCDD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6D9-BC7A-4757-804B-340975B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AA52-81D1-4F11-837F-E13B5AD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FD98-1917-40E6-94CF-0E9F572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1C5D-901F-4934-9C7E-61AB69E1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933-3F4D-4ACD-A47E-6058E054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024-A64B-48B0-9D65-B2ECB3B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324-8935-46F1-8C8B-EBD3E56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985-3EDE-4D92-9587-F41D215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BB9-6833-48C8-BAF5-E90F201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D17-00BD-45E4-9F12-8C1414C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CCA-2767-473D-AD4F-83760F33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18B-471C-4A54-9890-218E514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39DA-CAE5-4B71-BB7E-9EBA9C109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FC3-6348-48AF-AF2F-6AC337D9D5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3.xml"/><Relationship Id="rId4" Type="http://schemas.openxmlformats.org/officeDocument/2006/relationships/slide" Target="slide2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—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年级（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全体师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685800"/>
            <a:ext cx="8077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表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语文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金超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英语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姜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科学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王一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社会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陈惟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思政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王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美术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张恩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信息技术：郑存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音乐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朱笑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堂登记员：郑益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胡艳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行车管理员：潘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眼保健操管理员：王阳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13372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竞争意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strips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50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05280" y="167652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69000"/>
          </a:bodyPr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立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主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律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信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班训</a:t>
            </a:r>
            <a:endParaRPr b="1" lang="en-US" sz="2400" spc="1" strike="noStrike">
              <a:ln w="7632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6002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制定班级规章制度，营造良好学习氛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实学校的八项常规管理。（早读、上课、课间操、眼保健操、课室卫生、仪表仪容、考勤、午休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加强学生管理队伍，培养学生自律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班干部科代责任制、班干值日制度、竞争小组、学习互助小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572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彩云"/>
              </a:rPr>
              <a:t>班主任工作管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80880"/>
            <a:ext cx="7925040" cy="21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理想竞争教育（制定班级目标， 期中目标，竞争对手、开展主题班会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责任心”的教育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学法指导，心理辅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周末发放一周报告单（包括学习、纪律等），实行家长签名反馈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79640" y="1989000"/>
            <a:ext cx="518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与任课老师面对面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438280"/>
            <a:ext cx="5321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733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学习没有动力，上课注意力不集中，不愿意做笔记，课堂效率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8380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5280" y="69228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学校里，有些学生自觉性比较差，没有充分利用午休时间和自习课时间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35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学之后，没有及时回家，在外游荡，很晚才进入学习状态。做完作业后没有复习预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30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末、假期时间过于放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84464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马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差错多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选择题乱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计算题只有答案没有过程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老师讲评过的练习始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没有及时订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习惯，导致已做过的练习屡做屡错。到考试时遇到难题不是去思考，而是乱猜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少数学生有抄作业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38080" y="1066680"/>
            <a:ext cx="76201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为了我们共同的目标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28195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沟通、理解、合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-6858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06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906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5910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415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3176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4000" spc="-1" strike="noStrike">
                <a:solidFill>
                  <a:srgbClr val="e53c07"/>
                </a:solidFill>
                <a:latin typeface="宋体"/>
                <a:ea typeface="黑体"/>
              </a:rPr>
              <a:t>1</a:t>
            </a:r>
            <a:r>
              <a:rPr b="1" lang="zh-CN" sz="4000" spc="-1" strike="noStrike">
                <a:solidFill>
                  <a:srgbClr val="e53c07"/>
                </a:solidFill>
                <a:latin typeface="宋体"/>
                <a:ea typeface="黑体"/>
              </a:rPr>
              <a:t>、教育孩子要有责任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黑体"/>
              </a:rPr>
              <a:t>有的同学虽然成绩不是很突出，但只要有强烈的责任感，今后照样能做出一番事业。打扫教室、宿舍卫生表面上看是不值得一提的小事，但实际上能反映出一个人的责任心，正所谓“一屋不扫、何以扫天下？”，责任感教育应该是本着从孩子自己到他人，从家庭到学校，从小事到大事，从少到多的原则　。在日常生活的具体事情当中，让孩子为自己去尝试承担一定的责任；要求孩子为自己的学习负责，认真完成作业，自己检查作业；要求孩子做一些力所能及的家务；洗自己的衣物，洗碗筷，倒垃圾，孩子在学校，父母别忘了教导他做值日生、班干部应尽职尽责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447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了解上学、回家的时间，时刻了解学生的动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9480" y="2590920"/>
            <a:ext cx="7850160" cy="3147120"/>
            <a:chOff x="609480" y="2590920"/>
            <a:chExt cx="7850160" cy="3147120"/>
          </a:xfrm>
        </p:grpSpPr>
        <p:sp>
          <p:nvSpPr>
            <p:cNvPr id="148" name=""/>
            <p:cNvSpPr/>
            <p:nvPr/>
          </p:nvSpPr>
          <p:spPr>
            <a:xfrm>
              <a:off x="609480" y="3020760"/>
              <a:ext cx="785016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早    晨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7:25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前到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中午放学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1: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下午上课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25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进校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下午放学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4: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36760" y="2590920"/>
              <a:ext cx="54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作息时间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1447920" y="22860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、尽量保证每天与孩子的及时沟通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多了解子女学习情况，不要只关心学习成绩，而不关注学习过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2590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了解在校学习以及与同学相处的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3429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掌握思想动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105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把握其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5181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生活上严格要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267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客观分析孩子的成绩，多关注学习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14400"/>
            <a:ext cx="97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幼圆"/>
                <a:ea typeface="幼圆"/>
              </a:rPr>
              <a:t>4.</a:t>
            </a:r>
            <a:r>
              <a:rPr b="1" lang="zh-CN" sz="4000" spc="-1" strike="noStrike">
                <a:solidFill>
                  <a:srgbClr val="990033"/>
                </a:solidFill>
                <a:latin typeface="幼圆"/>
                <a:ea typeface="幼圆"/>
              </a:rPr>
              <a:t>给子女营造一个良好的学习氛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05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、努力帮助孩子尽快适应初中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895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安排好作息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督促孩子做好预习、复习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343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有选择地看课外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引导孩子掌握良好的学习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5382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07800"/>
            <a:ext cx="8064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Tahoma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3300"/>
                </a:solidFill>
                <a:latin typeface="Tahoma"/>
                <a:ea typeface="华文楷体"/>
              </a:rPr>
              <a:t>工作再忙也要抽点时间来多了解孩子在校的表现和学习成绩情况。因为孩子只有一个呀，我们的一切工作难道不是为了孩子将来的美好前途吗？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多与班主任和各科任老师联系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及时了解孩子在学校的学习和生活情况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因为有很多事情就是因为家长不了解自己孩子的情况才发生的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62120" y="1905120"/>
            <a:ext cx="7010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穷不能穷孩子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689800" cy="140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老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0"/>
            <a:ext cx="4953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30481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2679840"/>
            <a:ext cx="71629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学生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学生的一切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一切的学生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任课老师自由交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82952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前苏联教育家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苏霍姆林斯基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     “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两个教育者——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新魏"/>
              </a:rPr>
              <a:t>学校和家庭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，不仅要一致行动，要向孩子提出同样的要求，而且要志同道合，抱着一致的信念，始终从同一原则出发，无论在教育的目的上、过程上，还是手段上，都不要发生分歧”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9144000" cy="75340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1295280" y="1371600"/>
            <a:ext cx="73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一、汇报班级的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1219320" y="3429000"/>
            <a:ext cx="5225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1295280" y="23623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二、与任课老师面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会议议程</a:t>
            </a: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95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我班共有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人，男生      人，女生      人，其中非本施教区有        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班长：   王梦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副班长：  郑益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学习委员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纪律委员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王炯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体育委员： 李森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生活委员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郑慧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宣传委员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王君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劳卫委员： 郑存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066680"/>
            <a:ext cx="8229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一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王晓凯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汪婷婷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二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黄冬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金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三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徐步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王忠强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四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池忠士超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王永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3:11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2:14Z</dcterms:modified>
  <cp:revision>57</cp:revision>
  <dc:subject>主题班会课件(分28大类): http://shop62905894.taobao.com</dc:subject>
  <dc:title>主题班会课件(分28大类): http://shop62905894.taobao.com</dc:title>
</cp:coreProperties>
</file>